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9.wmf" ContentType="image/x-wmf"/>
  <Override PartName="/ppt/media/image6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8.wmf" ContentType="image/x-wmf"/>
  <Override PartName="/ppt/media/image25.jpeg" ContentType="image/jpeg"/>
  <Override PartName="/ppt/media/image10.wmf" ContentType="image/x-wmf"/>
  <Override PartName="/ppt/media/image12.wmf" ContentType="image/x-wmf"/>
  <Override PartName="/ppt/media/image29.wmf" ContentType="image/x-wmf"/>
  <Override PartName="/ppt/media/image31.png" ContentType="image/png"/>
  <Override PartName="/ppt/media/image14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wmf" ContentType="image/x-wmf"/>
  <Override PartName="/ppt/media/image2.jpeg" ContentType="image/jpeg"/>
  <Override PartName="/ppt/media/image23.jpeg" ContentType="image/jpeg"/>
  <Override PartName="/ppt/media/image1.wmf" ContentType="image/x-wmf"/>
  <Override PartName="/ppt/media/image16.png" ContentType="image/png"/>
  <Override PartName="/ppt/media/image20.wmf" ContentType="image/x-wmf"/>
  <Override PartName="/ppt/media/image17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7.jpeg" ContentType="image/jpeg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CD15-CF61-4200-9EB8-6B27C28A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49350-4233-428D-B590-B4C348E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09995-92FF-4B00-B584-6FC32F51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92BB0-EF3A-4D3B-A37A-2F25C31B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18D7-2A33-4A4A-8C3C-FE71E0AD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55B8-0D5C-4603-882F-7B9EEE50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F721-0A0B-41DB-8961-38921F27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8F6F-0970-4DBB-A48A-4E7207FF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A534-9728-474C-8B19-0FAC0C20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A1EE-B396-4EE3-AD9E-430ED10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ACA0-F948-4096-97E4-E3B8C032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CD31-3A99-44EE-9D6A-1B789E77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B8BB-222D-471F-B146-8467070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4DDF-E631-49AD-89DE-A78287D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BD2E-D5D7-4F05-BE94-AC6017E6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A2E1-7417-4B59-8B97-ADA6774E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1968-1D08-40CB-8A8A-249F41AB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5F80-9AA3-42D7-B2D1-DA2E7182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6D76-3895-4076-9956-38567E6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EE9E-215C-4674-9D0A-6A58B29B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5FE76-7A4C-4233-B134-00BB5FD6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4A59-471A-4F5F-B9C5-002E619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D5F2-6000-43AD-B88C-402D20FF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D886-26D2-4434-A4C6-274F655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020F-1ADC-48C0-A00A-E30651869332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429D-E75F-4741-8E9D-CEA382526BF7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28800"/>
            <a:ext cx="8164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GROWTH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ASSES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4266720"/>
            <a:ext cx="8307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 Badi AlEna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ultant pediatric endocrinology and diabetolg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826920" y="1873080"/>
            <a:ext cx="7417080" cy="40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measurement (older children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Height_measurement_techniqu"/>
          <p:cNvPicPr/>
          <p:nvPr/>
        </p:nvPicPr>
        <p:blipFill>
          <a:blip r:embed="rId1"/>
          <a:stretch/>
        </p:blipFill>
        <p:spPr>
          <a:xfrm>
            <a:off x="1908000" y="1052640"/>
            <a:ext cx="5231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73280" y="0"/>
            <a:ext cx="51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282600" y="857160"/>
            <a:ext cx="8459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of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ways measure Ht without shoes, and when plotting the patient in the growth curve, be accurate regarding the actual age of the child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7346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89308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4705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612800" y="0"/>
            <a:ext cx="54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468360" y="1647720"/>
            <a:ext cx="84963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s of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horm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e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st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l st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468360" y="1698480"/>
            <a:ext cx="81360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eletal Matur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one 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letal maturation is assessed by examination of a “bone age”(BA) film, which is a radiograph of the left h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 assess the  bone maturation of multiple ossification centers and compare it to standard male or female radiographs. The BA can then be compared to the patient’s chronologic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61437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hort st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oach to short st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s to be Elicited in the History (Eti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of onset: Since when is the child not gr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ious growth records: School, home or physician records of previous he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eights must be sought and charted on growth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atal history: Substance abuse, medication, infections (IU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rth history: Birth weight/gestation age (IUG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O birth asphyxia [multiple pituitary hormone deficiency (MPHD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ch delivery, neonatal hypoglycemia (GHD, MPH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longed neonatal hyperbilirubinemia (hypothyroi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al milestones (hypothyroidism, chromosomal/genetic cau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ptoms pertaining to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ness of breath, cyanosis, cough, fever [heart disease, asthma,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B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rrhea, steatorrhea, abdominal pain (malabsor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ache, vomiting, visual problems (pituitary-hypothalamic m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ipation, lethargy, feeding difficulty (hypothyroid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lyuria, renal tubercular acidosis (RTA), chronic renal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/O hepatitis, distension abdomen, melena (chronic liver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−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rent blood transfusions (thalassemia and other chronic anem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tary history: To elicit weaning practice, calorie and protein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history: Prolonged use of corticosteroids, amphetamine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history of SS in first/second degree rel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puberty in one or both pa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history: Child abuse, family discord, emotional deprivation (psychosocial dwarf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73160" y="1357200"/>
            <a:ext cx="834228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1833480" y="266760"/>
            <a:ext cx="5477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25892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785960"/>
            <a:ext cx="82296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is a dynamic process influenced by many intrinsic and extrinsic factors that interplay to determine ultimate attained h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619280" y="0"/>
            <a:ext cx="59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64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 Black"/>
              </a:rPr>
              <a:t>Differential features of familial and constitutional short stature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981080"/>
          <a:ext cx="8229600" cy="3505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4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eatu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amilial short statur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nstitutional delay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rents' statur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mall (one or both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erage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arents' 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n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Growth (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)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low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one age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iming of puberty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elayed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dult height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sh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ormal</a:t>
                      </a: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NDOCRINE CAUSES OF GROWTH FAILUR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 deficiency. (congenital &amp;acquire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H resi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nhypopituit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corticoid ex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controlled 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iagnosed 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phosphatemic  ri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7"/>
          <p:cNvPicPr/>
          <p:nvPr/>
        </p:nvPicPr>
        <p:blipFill>
          <a:blip r:embed="rId1"/>
          <a:stretch/>
        </p:blipFill>
        <p:spPr>
          <a:xfrm>
            <a:off x="2089080" y="0"/>
            <a:ext cx="496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shing synd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1"/>
          <p:cNvPicPr/>
          <p:nvPr/>
        </p:nvPicPr>
        <p:blipFill>
          <a:blip r:embed="rId1"/>
          <a:stretch/>
        </p:blipFill>
        <p:spPr>
          <a:xfrm>
            <a:off x="3059280" y="1844640"/>
            <a:ext cx="28317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achondroplasia"/>
          <p:cNvPicPr/>
          <p:nvPr/>
        </p:nvPicPr>
        <p:blipFill>
          <a:blip r:embed="rId1"/>
          <a:stretch/>
        </p:blipFill>
        <p:spPr>
          <a:xfrm>
            <a:off x="2195640" y="0"/>
            <a:ext cx="456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09hp0245"/>
          <p:cNvPicPr/>
          <p:nvPr/>
        </p:nvPicPr>
        <p:blipFill>
          <a:blip r:embed="rId1"/>
          <a:stretch/>
        </p:blipFill>
        <p:spPr>
          <a:xfrm>
            <a:off x="1116000" y="620640"/>
            <a:ext cx="61927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prader-willi"/>
          <p:cNvPicPr/>
          <p:nvPr/>
        </p:nvPicPr>
        <p:blipFill>
          <a:blip r:embed="rId1"/>
          <a:stretch/>
        </p:blipFill>
        <p:spPr>
          <a:xfrm>
            <a:off x="1655640" y="1523880"/>
            <a:ext cx="5267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eful tracking of childhood growth is a sensitive indicator of health and well-being, and therefore an essential component of sound pediatric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wth hormone de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Chronic%20GH%20Deficieny%20in%20Twins1"/>
          <p:cNvPicPr/>
          <p:nvPr/>
        </p:nvPicPr>
        <p:blipFill>
          <a:blip r:embed="rId1"/>
          <a:stretch/>
        </p:blipFill>
        <p:spPr>
          <a:xfrm>
            <a:off x="2556000" y="1557360"/>
            <a:ext cx="35049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250920" y="0"/>
            <a:ext cx="813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7417080" cy="1800360"/>
          </a:xfrm>
          <a:prstGeom prst="rect">
            <a:avLst/>
          </a:prstGeom>
          <a:ln w="0">
            <a:noFill/>
          </a:ln>
        </p:spPr>
      </p:pic>
      <p:pic>
        <p:nvPicPr>
          <p:cNvPr id="190" name="صورة 5" descr="lightnin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191" name="مستطيل 6" descr=""/>
          <p:cNvPicPr/>
          <p:nvPr/>
        </p:nvPicPr>
        <p:blipFill>
          <a:blip r:embed="rId3"/>
          <a:stretch/>
        </p:blipFill>
        <p:spPr>
          <a:xfrm>
            <a:off x="2577960" y="2103480"/>
            <a:ext cx="362772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ses of Norm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tero, growth affect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in and insulin-like growth factors 1 (IGF-1) and 2 (IGF-2). nutri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b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weight 3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 length 50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HC 3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ases of Norma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l growth velocity for children until the pubertal growth spu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12  months: 2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year:  1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year: approximately 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 childhood until puberty (5 to 10 years): growth averages 5 to 6 c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wth measure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ow 2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20872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antomet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nfantometer-%203"/>
          <p:cNvPicPr/>
          <p:nvPr/>
        </p:nvPicPr>
        <p:blipFill>
          <a:blip r:embed="rId1"/>
          <a:stretch/>
        </p:blipFill>
        <p:spPr>
          <a:xfrm>
            <a:off x="684360" y="1989000"/>
            <a:ext cx="6696000" cy="40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95280" y="1900080"/>
            <a:ext cx="78487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1T11:06:46Z</dcterms:created>
  <dc:creator>SSS</dc:creator>
  <dc:description/>
  <dc:language>en-US</dc:language>
  <cp:lastModifiedBy>Admin</cp:lastModifiedBy>
  <dcterms:modified xsi:type="dcterms:W3CDTF">2017-11-01T08:24:08Z</dcterms:modified>
  <cp:revision>12</cp:revision>
  <dc:subject/>
  <dc:title>GROWTH AND MILSTONE DISORDER</dc:title>
</cp:coreProperties>
</file>